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253163" cy="9612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194000"/>
            <a:ext cx="237636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3"/>
            <a:endCxn id="101" idx="1"/>
          </p:cNvCxnSpPr>
          <p:nvPr/>
        </p:nvCxnSpPr>
        <p:spPr>
          <a:xfrm flipV="1">
            <a:off x="3313080" y="3404160"/>
            <a:ext cx="2699280" cy="67824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102" name=""/>
          <p:cNvCxnSpPr>
            <a:stCxn id="100" idx="3"/>
            <a:endCxn id="98" idx="1"/>
          </p:cNvCxnSpPr>
          <p:nvPr/>
        </p:nvCxnSpPr>
        <p:spPr>
          <a:xfrm>
            <a:off x="3313080" y="4082040"/>
            <a:ext cx="2699280" cy="673560"/>
          </a:xfrm>
          <a:prstGeom prst="bentConnector3">
            <a:avLst>
              <a:gd name="adj1" fmla="val 50006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Ammoniak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onzentratio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m Blu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6760" y="54936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3" action="ppaction://hlinksldjump"/>
              </a:rPr>
              <a:t>Ammoniakkonzentration im Blut ↑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843280"/>
            <a:ext cx="2376360" cy="11221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4" action="ppaction://hlinksldjump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5" action="ppaction://hlinksldjump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3313080" y="4080960"/>
            <a:ext cx="2689920" cy="2520"/>
          </a:xfrm>
          <a:prstGeom prst="bentConnector3">
            <a:avLst>
              <a:gd name="adj1" fmla="val 49939"/>
            </a:avLst>
          </a:prstGeom>
          <a:ln w="19080">
            <a:solidFill>
              <a:srgbClr val="333399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gehung d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rtosystemisch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u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5320" y="549360"/>
            <a:ext cx="61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mmoniakkonzentration im Blut ↑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gt; Umgehung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7000" y="3519360"/>
            <a:ext cx="2376720" cy="11224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berfunktions-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4600" y="5493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Ammoniakkonzentration im Blut ↑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&gt; Leberfunktionsstörun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0" idx="3"/>
            <a:endCxn id="113" idx="1"/>
          </p:cNvCxnSpPr>
          <p:nvPr/>
        </p:nvCxnSpPr>
        <p:spPr>
          <a:xfrm>
            <a:off x="3313080" y="4080960"/>
            <a:ext cx="1340640" cy="108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4662360" y="1628640"/>
            <a:ext cx="3735360" cy="4905360"/>
          </a:xfrm>
          <a:custGeom>
            <a:avLst/>
            <a:gdLst>
              <a:gd name="textAreaLeft" fmla="*/ 182160 w 3735360"/>
              <a:gd name="textAreaRight" fmla="*/ 3553200 w 3735360"/>
              <a:gd name="textAreaTop" fmla="*/ 182160 h 4905360"/>
              <a:gd name="textAreaBottom" fmla="*/ 4723200 h 4905360"/>
            </a:gdLst>
            <a:ahLst/>
            <a:rect l="textAreaLeft" t="textAreaTop" r="textAreaRight" b="textAreaBottom"/>
            <a:pathLst>
              <a:path w="21600" h="28365">
                <a:moveTo>
                  <a:pt x="3600" y="0"/>
                </a:moveTo>
                <a:arcTo wR="3600" hR="3600" stAng="16200000" swAng="-5400000"/>
                <a:lnTo>
                  <a:pt x="0" y="24765"/>
                </a:lnTo>
                <a:arcTo wR="3600" hR="3600" stAng="10800000" swAng="-5400000"/>
                <a:lnTo>
                  <a:pt x="18000" y="28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333399"/>
                </a:solidFill>
                <a:uFillTx/>
                <a:latin typeface="Arial"/>
              </a:rPr>
              <a:t>Beispiel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Leberzirrhose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Neoplasie der Leb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z. B. Lymphom),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epatolipidose, …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640" y="639684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. B. = zum Beispiel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46:27Z</dcterms:modified>
  <cp:revision>331</cp:revision>
  <dc:subject/>
  <dc:title>Vorstellung einer Neuheit</dc:title>
</cp:coreProperties>
</file>